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10C2-3502-4CA9-91C7-44646E49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33D3-CFBB-4331-84F6-D845BBCB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63C5-3965-4052-916D-68CD8D514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B341-94BF-4393-B4A9-FEDB540C4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96B4-CABB-4DB0-BE2F-9BBE946C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805B-B4B0-4EA6-802F-14894907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51F-0A24-4C4C-A969-9FDCBAB5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E5E-479D-45BE-A43F-F831CE3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088B-0EE3-491E-A533-0B50DC2F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1C0-BA0D-4FDF-B06C-9AC9BEF3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A4C0-F1B9-4685-9CE3-3E22DF38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10C9-27D2-4279-80B4-ACD9F030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8899-30AC-4CF6-B1D3-C111C45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0929-3C3A-4600-A89B-76013B4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5B42-3BAF-45DB-B738-8D76B1E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BA7-9A1A-4AC0-9F0E-409DBF4E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6F31-F28E-455F-AB2C-35ED5C02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3B3-2E1A-494A-9952-95E287F5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EA5-524F-4628-9356-370E8EF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A8D4-1C7B-4774-B032-6F00B555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81C6-DCCF-4F4F-AB68-179CAAD9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C383-201C-4133-8D99-6B7A3CE7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E967-0D87-4786-972E-55A6F119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A58-CFC2-4A44-AD1C-5CC71DE8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1D-AE79-46C4-A839-60B6BA88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A50-B6AF-4AE2-997A-1C846F0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2E7-4259-4A62-B7ED-64292F8F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F21-B2E1-4B1F-8357-170A96A0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962A-7ED4-48BD-8CC2-92618CC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C64-A6A3-425A-AC53-F2118A9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06C-39A3-427C-B7DC-4BD648F2E2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FDB-7F48-499D-B7B1-BC55D85747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ocument Desig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3 Demonstrate desktop publis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 Example of a Master P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Fig3-07"/>
          <p:cNvPicPr/>
          <p:nvPr/>
        </p:nvPicPr>
        <p:blipFill>
          <a:blip r:embed="rId1"/>
          <a:srcRect l="529" t="12504" r="20452" b="0"/>
          <a:stretch/>
        </p:blipFill>
        <p:spPr>
          <a:xfrm>
            <a:off x="2641680" y="1905120"/>
            <a:ext cx="5113080" cy="4006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/>
          <p:cNvSpPr/>
          <p:nvPr/>
        </p:nvSpPr>
        <p:spPr>
          <a:xfrm>
            <a:off x="0" y="2289240"/>
            <a:ext cx="4495680" cy="2895480"/>
          </a:xfrm>
          <a:prstGeom prst="rightArrowCallout">
            <a:avLst>
              <a:gd name="adj1" fmla="val 25002"/>
              <a:gd name="adj2" fmla="val 25000"/>
              <a:gd name="adj3" fmla="val 25878"/>
              <a:gd name="adj4" fmla="val 6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ster pages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aces to create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d footers, insert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mbers, place a logo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aphic that appear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p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6320" y="5184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aster page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152280" y="5870520"/>
            <a:ext cx="213372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362320" y="6095880"/>
            <a:ext cx="59436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this example, a footer is being created tha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play on every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 flipV="1">
            <a:off x="3581280" y="5028840"/>
            <a:ext cx="1447920" cy="10666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2240" y="277560"/>
            <a:ext cx="732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urpose of a Master P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intains layout consisten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ludes items common to every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51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st desktop publishing programs allow a left and a right master page fo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acing page layout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51"/>
              </a:spcBef>
              <a:buClr>
                <a:srgbClr val="ff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desktop publishing programs allow the definition of several master pages that can be applied to specific pages in the docu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totyp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otype, or mockup, is an example of how the final document should app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using software or paper and penci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a “dummy”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1-01"/>
          <p:cNvPicPr/>
          <p:nvPr/>
        </p:nvPicPr>
        <p:blipFill>
          <a:blip r:embed="rId1"/>
          <a:srcRect l="21277" t="0" r="21277" b="0"/>
          <a:stretch/>
        </p:blipFill>
        <p:spPr>
          <a:xfrm>
            <a:off x="838080" y="21337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4560" y="228240"/>
            <a:ext cx="802944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mat Consid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document sizes and layouts that will be used in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s and documents may include one or more layouts for the following pub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terhe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c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l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i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-fold  or double-fold broch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 rot="820800">
            <a:off x="5341680" y="3831840"/>
            <a:ext cx="28526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6:27:10Z</dcterms:created>
  <dc:creator>bcrockett</dc:creator>
  <dc:description/>
  <dc:language>en-US</dc:language>
  <cp:lastModifiedBy>cmiller</cp:lastModifiedBy>
  <dcterms:modified xsi:type="dcterms:W3CDTF">2010-07-12T18:08:57Z</dcterms:modified>
  <cp:revision>11</cp:revision>
  <dc:subject/>
  <dc:title>Slide 1</dc:title>
</cp:coreProperties>
</file>